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FC675-5404-4ABD-843B-57E7593DCC9B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ED839-EFB9-4CEA-8EA2-E5976D032521}" type="slidenum">
              <a:rPr b="0" lang="sr-Latn-C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12F03-12D5-43C5-8EF4-75BAA1F8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B841-65D1-4B86-A2D9-4F2168BAF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B31A-CBB0-4ADD-B4B4-237167C43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70A20-B265-4F40-A20D-68402372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1F5D8-5271-4D05-A7FF-D460993AD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CD156-2B55-4634-866A-D5325CFFE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A872C-270A-4D9B-8B21-51FD7256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EF075-8A7A-46F4-840F-980E4C32C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6F027-B18D-45BF-A387-D2081EB8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DB243-370F-410C-B03B-F5FB99496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02C28-385C-4691-8EB0-867EA343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7921-53ED-429C-BB3D-12F524ACF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CCF0D-B5B5-40D8-9262-1CBAE19FC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3EE46-6047-45F5-ACD4-B3A0AC1A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C50FF-3126-4BCE-8888-EF2DF42C0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D2C3-7A4F-4A5D-9CBD-7355724B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EBCB6-9832-44F1-BDDE-3F13248F3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880DE-806C-4627-B054-BA1332263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A0979-60F7-42F0-957B-5285553D1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57B46-7ED2-4F31-94D5-5978CBE48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691003-2DCD-4F27-87A1-F1FD34E15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B70D4E-8798-489F-8443-871705D15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A1B6-5B4A-41F9-BFA4-3CB519A2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B35C82-A02B-40D0-87AB-1F0B7183F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63708-7EC2-4C94-8977-DA06FAF64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3C99B-E731-4781-800D-5EED02C50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2834-03E9-4E30-91C7-7D9752AEE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EEFF8-7051-4909-8830-9604786D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B06FE-993E-49C3-B3C7-BF1E29CC0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33B2D5-E352-40F6-A116-B443CDAC0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A7E6-CED8-41B2-B581-100DB6CED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2DF5-C07F-4984-816B-8C903E403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2BBC-8F64-4E46-AC60-1B711640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E93A5-E07F-4572-A5A8-0094DEED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9E7-6068-4CAF-8BC5-0C93F839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0724-33FC-47E3-9B96-B70F8ECAE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79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8336D-A78E-4798-BC4B-0000221BAC97}" type="slidenum">
              <a:rPr b="0" lang="sr-Latn-C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79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2E5CE-FD5B-4A9A-98EC-2C910F1F3F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79">
            <a:alpha val="66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825DD-F1E9-484C-B144-3B6799A030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ста недеља наставе, </a:t>
            </a:r>
            <a:r>
              <a:rPr b="1" lang="fr-F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09 ТОКСИКОЛОГИЈА – КЛИНИЧКИ, ЕКОЛОШКИ И ЕКСПЕРИМЕНТАЛНИ АСПЕК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428840" y="4642920"/>
            <a:ext cx="6400800" cy="14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ф. Слободан Јанкови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оксична дејства БЗ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ЧЕ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шамућеност, незаинтересованост, продужено време реакције, моторна инкоордин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абљење менталних и моторних функција, конфу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нтероградна амне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паност преко д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ви ови ефекти су више изражени код старих особ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оксична дејства БЗ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ЛАТИВНО ЧЕСТ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аб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главоб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мућен ви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вртоглавица, мучнина и повраћ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 у епигастријуму и дијаре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олови у зглобовима и грудном кош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нконтиненц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некад повећавају учесталост напада код епилептич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оксична дејства БЗ-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луразепам понекад изазива ноћне море, посебно у првој недељи употребе, праћене анксиозношћу, иритабилношћу, тахикадијом и знојење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д неких пацијената се јавља ДЕЗИНХИБИЦИЈА (амнезија, еуфорија, немир, халуцинације, хипоманично понаш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гуће су и параноја, депресија и самоубилачке иде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тидот за тровање бензодиазепиним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Флумазенил, 0.2 милиграма интравенс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Понављари на 60 секунди док се пацијент не пробуд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Максимално 1 милигр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дставници барбиту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457200" y="1600200"/>
          <a:ext cx="8229600" cy="43768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мобарб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м., и.в., Т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0-40 час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аница, епилепс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етохекс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в., Т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3-5 час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ндукција анестез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50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ентобарб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, ректално, и.м., и.в., Т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5-50 час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аница, епилепсија, преопер. седа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фенобарб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, и.м., и.в., Т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80 - 120 час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онвулзије, седација, епилепс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екобарби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, Т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15-40 час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аница, преопер. седациј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иопент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и.в., Т</a:t>
                      </a:r>
                      <a:r>
                        <a:rPr b="0" lang="sr-CS" sz="20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1/2</a:t>
                      </a: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8-10 часо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увод у анестезију, конвулзиј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оксична дејства барбитура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па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лабљење когниције и моторних способ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арадоксална ексцитација код старих или немоћних пацијен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афилакса код особа са астмом, уртикаријом и ангиоедем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горшава акутну интермитентну порфирију и порфирију вариега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епресија дисања код болесника са респираторном инсуфицијен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а ињекција изазива кардиоваскуларни колап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ровање етано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тил-алкохол прво доводи до ексцитације (услед отклањања кортикалне контроле уживалац алкохола губи моралне норме понашања) а затим инхибиције ЦНС-а (поспаност, моторна инкоординација, у већим дозама сан и ком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ђе изазива хипогликемију и хипотермију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мртоносна доза за одраслог човека је 400 мл чистог етанола, дакле око 1л „жестоког“ пић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ровање етано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ровање алкохолом се лечи пре свега симптоматски. Треба одржавати виталне функције отрованог (вештачко или асистирано дисање, инфузије течности ради одржања рада бубрега, општа нега) све док јетра не елиминише алкохол и повуче се депресивно дејство на ЦНС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мена 5% глукозе је пожељна, јер се код отрованог често развија хипогликемија; уз глукозу треба обавезно дати витамин Б1 (тиамин), 100 мг интрамускуларно, да би се избегло стварање млечне кисели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д најтежих тровања етил-алкохол се може успешно елиминисати хемодијализ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ровање метано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нол (CH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H) се налази у већој количини у алкохолним пићима лошег квалите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танол, као и етил-алкохол, доводи до депресије ЦНС-а. Међутим, метаболисањем метанола (у јетри, под дејством алкохолне дехидрогеназе) настају прво формалдехид, а затим изузетно токсична мравља киселина (HCООH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равља киселина изазива ацидозу и делује неуротоксично: јављају се слепило, конвулзије и тешка главобоља. Слепилу претходи поремећај вида који болесници описују као доживљај „снежне олује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ровање метанол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ровање метанолом се лечи применом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етанол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. Етанол окупира алкохолну дехидрогеназу и спречава метаболисање метанола до мравље киселин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место етанола може се користити 4-метилпиразол (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омепизол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). Он инхибира алкохолну-дехидрогеназу и спречава претварање метанола у формалдехид. Почетна доза фомепизола је 15 мг/кг интравенск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д најтежих тровања треба применити хемодијализу, која успешно отклања метанол и мрављу киселин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суство ацидозе се лечи интравенском применом натријум-бикарбон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оксична дејства трицикличних антидепрес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нтимускарински ефекти (сува уста, метални укус, опстипација, тахикардија, парализа акомодације, ретенција урин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купљају се у миокарду, где блокирају канале за натријум, па могу изазвати аритмије; не користити их после инфаркта миокарда, код успореног спровођења у срцу или када пацијент прима антипсихотике са кардиодепресивним дејством (нпр. тиоридазин) – у таквим ситуацијама користити сертралин или друге блокаторе преузимања серотон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стурална хипотензија, због блокаде алфа1 рецепто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бост и замор, код терцијерних амина, због централног антихистаминског ефек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нфузија, делиријум, конвулз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цесивно зноје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ораст телесне тежи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азак у манично ст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оксична дејства блокатора преузимања серотонина (СБПС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гастроинтестиналне тегобе: мучнина, повраћ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одложени оргазам код жена, инхибиција ејакулације код мушкара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 доводе до пораста тежине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есаница, седација, ноћне 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Екстрапирамидални поремећаји, укључујући акатиз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луоксетин изазива анксиозност и агитац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азивају хипонатремију, због претеране секреције АД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лазак у манично стање (ређе него код трицикл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нхибирају агрегацију тромбоцита и могу довести до крвавље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оксична дејства хетероцикличних антидепреси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бупропион у дозама већим од 450 мг изазива конвулзије; такође може деловати као стимуланс – агитација, анорексија, несани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ртазапин има централни антихистамински ефека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зодон и нефазодон селују седатив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зодон изазива пријапизам код мушкарац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фазодон посебно често делује хепатотоксич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Токсична дејства МАО инхибито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6400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дација или ексцита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стурална хипотенз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акција на стари сир, димљену рибу и квасац – храну која садржи пуно тирам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Серотонински синдром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изазива га комбинација МАО инхибитора са блокаторима преузимања серотонина или било којим другим леком који потенцира активност серотонина (меперидин, пентазоцин, декстрометорфан, фенфлурамин, ретко и трициклици, л-триптофан, буспирон, суматриптан, дихидроерготамин, амфетамин, кока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астоји се од: акатизије, миоклонуса, хиперрефлексије, знојења, ерекције, дрхтања, тремора. Потом настају конвулзије и ко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главном сам пролази по прекуду примене лек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а би се избегао серотонински синдром, не уводити инхибиторе МАО док не прође 5 недеља од прекида примене блокатора преузимања серотонина, и не уводити друге антидепресиве док не прође 2-3 недеље од престанка примене инхибитора МА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Токсич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на дејства </a:t>
            </a: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антиепилеп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838080" y="1746360"/>
          <a:ext cx="7543800" cy="4754520"/>
        </p:xfrm>
        <a:graphic>
          <a:graphicData uri="http://schemas.openxmlformats.org/drawingml/2006/table">
            <a:tbl>
              <a:tblPr/>
              <a:tblGrid>
                <a:gridCol w="3324240"/>
                <a:gridCol w="4219560"/>
              </a:tblGrid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ЖЕЉЕНО ДЕЈСТВ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ЗРОЧНИ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Оспа на кожи и Стивен Џонсонов синдр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motrigine [8], phenytoin [9], carbamazepine [12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Пораст креатинина у серум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motrigine [8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мањење апетита, мучнина и губитак тежин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piramate [10,11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понатремија због неадекватне секреције АД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arbamazepine 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oxcarbazepine [13,14,15,16,17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Хемолитичка анем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xcarbazepine [19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Тромбоцитопен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xcarbazepine [20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Копролал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motrigine [26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Учестале нетрауматске фрактур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rbamazepine, clonazepam, gabapentin, phenobarbital, 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phenytoin [33,34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Неравнотежа при ходу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rbamazepine </a:t>
                      </a:r>
                      <a:r>
                        <a:rPr b="1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и</a:t>
                      </a: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 gabapentin [38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Апластична анемиј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elbamate [39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Декомпензација срчане инсуфицијенциј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egabalin [30a,30b]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</a:rPr>
              <a:t>КОНТИНУУМ СЕДАТИВНОГ ДЕЈ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4"/>
          <p:cNvSpPr/>
          <p:nvPr/>
        </p:nvSpPr>
        <p:spPr>
          <a:xfrm>
            <a:off x="2484360" y="4941720"/>
            <a:ext cx="460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5"/>
          <p:cNvSpPr/>
          <p:nvPr/>
        </p:nvSpPr>
        <p:spPr>
          <a:xfrm flipV="1">
            <a:off x="2484360" y="1844280"/>
            <a:ext cx="0" cy="30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3186000" y="5176800"/>
            <a:ext cx="174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оза седат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326160" y="4508640"/>
            <a:ext cx="130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мире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98160" y="400536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спано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470520" y="35733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с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6880" y="3141720"/>
            <a:ext cx="18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свесно ст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541800" y="2781360"/>
            <a:ext cx="69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541800" y="2421000"/>
            <a:ext cx="13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анестез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180720" y="1844640"/>
            <a:ext cx="218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депресија дисањ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и см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14"/>
          <p:cNvSpPr/>
          <p:nvPr/>
        </p:nvSpPr>
        <p:spPr>
          <a:xfrm flipV="1">
            <a:off x="2484360" y="1557000"/>
            <a:ext cx="4608720" cy="33843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Freeform 17"/>
          <p:cNvSpPr/>
          <p:nvPr/>
        </p:nvSpPr>
        <p:spPr>
          <a:xfrm>
            <a:off x="2484360" y="2540160"/>
            <a:ext cx="6131160" cy="2401560"/>
          </a:xfrm>
          <a:prstGeom prst="pie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18"/>
          <p:cNvSpPr/>
          <p:nvPr/>
        </p:nvSpPr>
        <p:spPr>
          <a:xfrm>
            <a:off x="6642000" y="2873520"/>
            <a:ext cx="211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ензодиазеп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сем мидазол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9"/>
          <p:cNvSpPr/>
          <p:nvPr/>
        </p:nvSpPr>
        <p:spPr>
          <a:xfrm>
            <a:off x="7145640" y="1216080"/>
            <a:ext cx="186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-бензодиазе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</a:rPr>
              <a:t>Представници бензодиазепин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395280" y="2000160"/>
          <a:ext cx="8229600" cy="426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1847880"/>
                <a:gridCol w="22669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лпразолам (Ксанак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сиозност, агорафоб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1/2 = 12 часова, тежак апст. синд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оназеп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Епилеп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1/2 = 23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9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Диазеп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, и.в., и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ректа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сиозност, статус епи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1/2 = 43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Лоразепам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, и.в., и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сиозност, статус епил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1/2 = 14 час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Клоразепат (Транек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ксиозност, епилепс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1/2 = 2 часа, али активни метаболит 40 сат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идазолам (Флормидал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, и.в., и.м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емедикациј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1/2 = 2 час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емазепам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ралн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есаниц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Т1/2 = 11 часов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4T12:23:24Z</dcterms:created>
  <dc:creator>Korisnik</dc:creator>
  <dc:description/>
  <dc:language>en-US</dc:language>
  <cp:lastModifiedBy>Slobodan Jankovic</cp:lastModifiedBy>
  <dcterms:modified xsi:type="dcterms:W3CDTF">2013-01-26T20:16:54Z</dcterms:modified>
  <cp:revision>75</cp:revision>
  <dc:subject/>
  <dc:title>Slide 1</dc:title>
</cp:coreProperties>
</file>